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001-7BE0-4B89-8C56-4575EA21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080-348B-40F7-AD29-726D51A0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87B-61F7-46B9-B8C3-2C2220F2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3BB-57B0-4120-AD49-A5B9945B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7B1-2177-47ED-9886-745321EC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BCF-5214-4E31-B4A3-BC0D7267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AA3-CC2E-4699-A26A-7FF9A51A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AC8F-54EA-480A-8AC2-4175BFE6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B74-FCF3-42F7-8B84-9B54C525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E81-EA3A-469B-8758-993F2650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BF6-BBB9-43FF-BEF9-19568017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33C-5BB3-4272-B01A-A5474274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FA5B-CFB5-4DBA-B022-908993164E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To Tell The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19640" y="2565360"/>
            <a:ext cx="25621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w try some of thes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049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30440" y="3411360"/>
            <a:ext cx="2303640" cy="223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11280" y="2332080"/>
            <a:ext cx="418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re is an analogue c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676760" cy="5057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64000" y="2637000"/>
            <a:ext cx="2232000" cy="2233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628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big hour hand shows the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43280" y="2060640"/>
            <a:ext cx="73080" cy="172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867280" y="2060640"/>
            <a:ext cx="865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148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of these little sections is one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57340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re are 60 minutes in one h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4076640"/>
            <a:ext cx="187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section between each of the numbers is 5 minutes- practise counting around the c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012000" y="443700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6300360" y="378900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about the little ha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676760" cy="5057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92360" y="2637000"/>
            <a:ext cx="2303640" cy="223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643280" y="2133360"/>
            <a:ext cx="73080" cy="172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3860640"/>
            <a:ext cx="72072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932360" y="2708280"/>
            <a:ext cx="201600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2060640"/>
            <a:ext cx="194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little hand measures the hour and uses the numbers on the clock face- it moves VERY slowly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6000" y="5084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195640" y="4508280"/>
            <a:ext cx="1008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436572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t takes a whole hour to move between the two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to tell the ti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676760" cy="5057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492360" y="2637000"/>
            <a:ext cx="2303640" cy="223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62864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e use the information from both the big and little hand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716360" y="2060280"/>
            <a:ext cx="0" cy="187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77080" y="1557360"/>
            <a:ext cx="17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he big hand is on the zero it means it is the start of the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708360" y="3933720"/>
            <a:ext cx="100800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422100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little hand has reached the 8 so we are in the eighth h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04000" y="501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at is the time 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about this clo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360" y="2637000"/>
            <a:ext cx="2303640" cy="223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18464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4500720" y="3212640"/>
            <a:ext cx="1223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3789360"/>
            <a:ext cx="35856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about this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79680" y="1600200"/>
            <a:ext cx="418464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564000" y="2852640"/>
            <a:ext cx="2016000" cy="208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564000" y="3284640"/>
            <a:ext cx="107928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211280" y="3860640"/>
            <a:ext cx="36036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her nam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2637000"/>
            <a:ext cx="2303640" cy="223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18464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00720" y="3789360"/>
            <a:ext cx="1439640" cy="7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00720" y="3789360"/>
            <a:ext cx="35856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0000" y="1773360"/>
            <a:ext cx="194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ometimes call this quarter past because the big hand has gone a quarter of the way 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about this clo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2360" y="2637000"/>
            <a:ext cx="2303640" cy="223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18464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00720" y="37893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851280" y="3789360"/>
            <a:ext cx="64944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844640"/>
            <a:ext cx="230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ll this half past because the big hand has gone half way round and the little hand is gone halfway between the two h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about this clo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2637000"/>
            <a:ext cx="2303640" cy="223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18464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H="1">
            <a:off x="3276720" y="378936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427280" y="2781360"/>
            <a:ext cx="7308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479736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ll this quarter to because the big hand only has a quarter turn left until it gets to the next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5661000"/>
            <a:ext cx="32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is would be quarter to 12, because there is a quarter turn before 12 o’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5:47:20Z</dcterms:created>
  <dc:creator>Teacher</dc:creator>
  <dc:description/>
  <dc:language>en-US</dc:language>
  <cp:lastModifiedBy>Wee</cp:lastModifiedBy>
  <dcterms:modified xsi:type="dcterms:W3CDTF">2012-11-27T06:51:38Z</dcterms:modified>
  <cp:revision>2</cp:revision>
  <dc:subject/>
  <dc:title>How To Tell The Time</dc:title>
</cp:coreProperties>
</file>